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ионеорганска хемија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Vertical Scroll 3"/>
          <p:cNvSpPr/>
          <p:nvPr/>
        </p:nvSpPr>
        <p:spPr>
          <a:xfrm>
            <a:off x="1187280" y="1557360"/>
            <a:ext cx="7056720" cy="3806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слабо растворни полинуклеарни комплекс има особину да лагано отпушта јоне сребра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а се у облику креме користи</a:t>
            </a:r>
            <a:r>
              <a:rPr b="0" i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евенцију бактеријске инфекције у случају тежих опеко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771640" y="3213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н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(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b(V)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целула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з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ishmaniasis)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antim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глукаминантимо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osta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боглуко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постоји велико интересовање за испитивање физичких и хемијских особина комплекса антим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тим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квасцем јер су такви комплекси показали значајну биолошку актив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ад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а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а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ванадијума са органским лигандима су мање токсични и имају већу растворљивост у воденим раствор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-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тола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ованадију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- 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координо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осованадију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-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908000" y="1413000"/>
          <a:ext cx="529920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13000"/>
                    <a:ext cx="529920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684360" y="46530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-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тола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ованадију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00120"/>
            <a:ext cx="8229600" cy="53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нуклеарни комплекс хрома активира инсулин рецепторски протеин познат као тирозин-кин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у активност су показали и одређени комплекси хрома који као лиганде садрже природне олигопепт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ив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пептид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(III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G:\Slike za predavanja\043.jpg"/>
          <p:cNvPicPr/>
          <p:nvPr/>
        </p:nvPicPr>
        <p:blipFill>
          <a:blip r:embed="rId1"/>
          <a:stretch/>
        </p:blipFill>
        <p:spPr>
          <a:xfrm>
            <a:off x="1476360" y="1413000"/>
            <a:ext cx="5886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ск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циклич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р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с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оксид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окси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мутаз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:\Slike za predavanja\044.jpg"/>
          <p:cNvPicPr/>
          <p:nvPr/>
        </p:nvPicPr>
        <p:blipFill>
          <a:blip r:embed="rId1"/>
          <a:stretch/>
        </p:blipFill>
        <p:spPr>
          <a:xfrm>
            <a:off x="2268360" y="1557360"/>
            <a:ext cx="41752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loud Callout 3"/>
          <p:cNvSpPr/>
          <p:nvPr/>
        </p:nvSpPr>
        <p:spPr>
          <a:xfrm>
            <a:off x="468360" y="1557360"/>
            <a:ext cx="8351640" cy="431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нс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кинсоно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цхајмерове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Комплексна једињења сребра, антимона, ванадијума, хрома, мангана, гадолинијума и кал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олинију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R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и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нормал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из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агнет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контраст</a:t>
            </a:r>
            <a:r>
              <a:rPr b="0" i="1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аген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гнет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(III), Mn(I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d(II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и јони имају већи број неспарених електрона па њихова комплексна једињења представљају високоспинске комплек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љујући великом броју неспарених електрона наведени јони метала имају дуга електрон-спин релаксациона времена па су погодни за примену у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R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ктроскоп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G:\Slike za predavanja\046.jpg"/>
          <p:cNvPicPr/>
          <p:nvPr/>
        </p:nvPicPr>
        <p:blipFill>
          <a:blip r:embed="rId1"/>
          <a:stretch/>
        </p:blipFill>
        <p:spPr>
          <a:xfrm>
            <a:off x="2700360" y="1197000"/>
            <a:ext cx="3897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гадолинијума</a:t>
            </a: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MR </a:t>
            </a: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оскопије</a:t>
            </a: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а</a:t>
            </a: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714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цероге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лош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зв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Фотодинамичка</a:t>
            </a:r>
            <a:r>
              <a:rPr b="0" i="1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м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ензор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шћ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ензо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а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нск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роте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G:\Slike za predavanja\049.jpg"/>
          <p:cNvPicPr/>
          <p:nvPr/>
        </p:nvPicPr>
        <p:blipFill>
          <a:blip r:embed="rId1"/>
          <a:stretch/>
        </p:blipFill>
        <p:spPr>
          <a:xfrm>
            <a:off x="1908000" y="1197000"/>
            <a:ext cx="527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бро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бро (Ag) је прелазни е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 у групу племенитих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роди је заступљен у веома малим количин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присуства у земљишту, сребро је у веома ниским концентрацијама (у траговима) присутно и у живим организмима (биљке и животиње) укључујући и људски органи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бро (A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2828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а биохемијска улога и физиолошки ефекти сребра нису у потпуности разјашњ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а истраживања указују на то да овај елемент има специфичан метаболички пут (унос, апсорпција, дистрибуција, деловање и излучивање из организ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ван унос сребра неопходан је за нормалну функцију људског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Horizontal Scroll 3"/>
          <p:cNvSpPr/>
          <p:nvPr/>
        </p:nvSpPr>
        <p:spPr>
          <a:xfrm>
            <a:off x="1116000" y="1700280"/>
            <a:ext cx="6985080" cy="4105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број развијених земаља света су званично регистровале колоидну сребрну воду као нутрицијент за људску употреб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Horizontal Scroll 3"/>
          <p:cNvSpPr/>
          <p:nvPr/>
        </p:nvSpPr>
        <p:spPr>
          <a:xfrm>
            <a:off x="971640" y="907920"/>
            <a:ext cx="4680000" cy="3025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е деловање колодине сребрне воде је у третману инфективних стања узрокова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ма, гљивицама и вирус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Horizontal Scroll 4"/>
          <p:cNvSpPr/>
          <p:nvPr/>
        </p:nvSpPr>
        <p:spPr>
          <a:xfrm>
            <a:off x="3708360" y="3213000"/>
            <a:ext cx="4896000" cy="3095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инфекција опеко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 усне дуп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г дела 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г уш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ог 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Horizontal Scroll 3"/>
          <p:cNvSpPr/>
          <p:nvPr/>
        </p:nvSpPr>
        <p:spPr>
          <a:xfrm>
            <a:off x="971640" y="907920"/>
            <a:ext cx="4464000" cy="316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ја научна истраживања указују на то да сребро из колоидног раствора директно делује на уништавање патогених микоорганиз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Horizontal Scroll 4"/>
          <p:cNvSpPr/>
          <p:nvPr/>
        </p:nvSpPr>
        <p:spPr>
          <a:xfrm>
            <a:off x="3203640" y="3284640"/>
            <a:ext cx="5040360" cy="309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колоидно сребро повољно утиче и на стимулисање имунолошких механизама организма ч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50012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икробиолош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I)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диазинс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актериј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фунг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I)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 гото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начај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 сулфадиазински комплекс сребра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G:\Slike za predavanja\042.jpg"/>
          <p:cNvPicPr/>
          <p:nvPr/>
        </p:nvPicPr>
        <p:blipFill>
          <a:blip r:embed="rId1"/>
          <a:stretch/>
        </p:blipFill>
        <p:spPr>
          <a:xfrm>
            <a:off x="1979640" y="2349360"/>
            <a:ext cx="45356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9T17:29:29Z</dcterms:modified>
  <cp:revision>138</cp:revision>
  <dc:subject/>
  <dc:title>Slide 1</dc:title>
</cp:coreProperties>
</file>